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373-5CD3-401D-A304-597308CC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015-5C63-4AD3-89D3-8B261DE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71A-B037-456D-A164-3A9EFDC5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14E-7316-4144-A620-FD6256A6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E702-DDDD-4657-8972-6D2DC4C9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A1F9-9E99-424A-B885-8B7E775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332-E827-498C-A624-414C549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0D28-835B-4177-B768-E56D9AE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D229-7A40-4C8F-B79E-ACF195F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9868-3A72-4F8B-99D6-AD6B5D47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1E81-CE38-4E43-9C19-63E14EF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DBA-567D-43BB-B618-8D43355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4283-26B2-4B76-A288-6175342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ABF-D8CC-440D-91CA-F359895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C46B-6E5A-4937-A26A-2A88E578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594D-EAF2-4F5E-8989-21BC40D3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5A26-DA31-4835-ACA6-519CDA2C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FF2-4D42-4C20-AA91-1783C462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BBC-0AB7-4EB3-9324-AC08857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5AA-74CA-4C0F-9978-7CFA048C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737-C303-46DA-9931-9546746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C8E-38C6-4165-A3C2-8C1008F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2D9-0A47-42BC-8A2B-8AE0D69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6C2-E304-46F3-9B47-8949719D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15B-4A4B-490E-BDE3-90A6C210135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2B41-5340-4FFB-8657-9B7C6518380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s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ошедшее продолженное врем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на фоне другого действия в прошлом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, when dad came 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, когда вошел пап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в течение конкретного периода в прошлом (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at 6 o’clock yesterday, yesterday in the morning)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 at 7 o’clock yesterda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чера в 7 час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276280"/>
            <a:ext cx="56894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Arial"/>
              </a:rPr>
              <a:t>Was\were</a:t>
            </a:r>
            <a:r>
              <a:rPr b="0" lang="en-US" sz="5600" spc="-1" strike="noStrike">
                <a:solidFill>
                  <a:srgbClr val="292929"/>
                </a:solidFill>
                <a:latin typeface="Arial"/>
              </a:rPr>
              <a:t> + </a:t>
            </a:r>
            <a:r>
              <a:rPr b="0" lang="en-US" sz="56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600" spc="-1" strike="noStrike" baseline="-25000">
                <a:solidFill>
                  <a:srgbClr val="ff9900"/>
                </a:solidFill>
                <a:latin typeface="Arial"/>
              </a:rPr>
              <a:t>ing</a:t>
            </a:r>
            <a:endParaRPr b="0" lang="en-US" sz="5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8936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question, when the teacher was asked for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15772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USA, when his sister got married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бщий вопрос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3141720"/>
            <a:ext cx="61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 his homework, when the phone rang up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5002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ица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141720"/>
            <a:ext cx="237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is homework, when the phone rang up.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</cp:lastModifiedBy>
  <dcterms:modified xsi:type="dcterms:W3CDTF">2007-10-30T09:08:40Z</dcterms:modified>
  <cp:revision>26</cp:revision>
  <dc:subject/>
  <dc:title>The Present Perfect Tense</dc:title>
</cp:coreProperties>
</file>